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E87-FA74-46F1-895F-3E5AC70A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C07-29C8-4FA5-8923-336D81E4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27E-D9AF-4001-A19D-7D06E111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32E-B3DF-4691-9A89-22237574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476-5D29-4353-8647-9849DBC8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6A1-5E52-4556-95B3-6025738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B77-0515-4A07-9200-3BC8E9F7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2AB-444F-4BAE-8E2B-D0EF8232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D00-2E6E-4580-A48E-3B54F4A7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BEA-44D6-4E87-B9FA-B4E76C7E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610-A062-4B20-8CFA-F82B7C6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0CE-9B0E-4DF1-8E41-839CFA4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00E8-686C-4233-8CE9-76364DD7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71560" y="3035160"/>
            <a:ext cx="152640" cy="15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905120"/>
            <a:ext cx="349200" cy="7251480"/>
          </a:xfrm>
          <a:custGeom>
            <a:avLst/>
            <a:gdLst/>
            <a:ahLst/>
            <a:rect l="l" t="t" r="r" b="b"/>
            <a:pathLst>
              <a:path w="220" h="4568">
                <a:moveTo>
                  <a:pt x="192" y="0"/>
                </a:moveTo>
                <a:lnTo>
                  <a:pt x="192" y="2016"/>
                </a:lnTo>
                <a:lnTo>
                  <a:pt x="0" y="3360"/>
                </a:lnTo>
                <a:lnTo>
                  <a:pt x="220" y="45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933480"/>
            <a:ext cx="6851520" cy="4705200"/>
          </a:xfrm>
          <a:custGeom>
            <a:avLst/>
            <a:gdLst/>
            <a:ahLst/>
            <a:rect l="l" t="t" r="r" b="b"/>
            <a:pathLst>
              <a:path w="5660" h="3876">
                <a:moveTo>
                  <a:pt x="0" y="0"/>
                </a:moveTo>
                <a:lnTo>
                  <a:pt x="5660" y="387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86080" y="5019840"/>
            <a:ext cx="4524120" cy="4066920"/>
          </a:xfrm>
          <a:custGeom>
            <a:avLst/>
            <a:gdLst/>
            <a:ahLst/>
            <a:rect l="l" t="t" r="r" b="b"/>
            <a:pathLst>
              <a:path w="2850" h="2562">
                <a:moveTo>
                  <a:pt x="2850" y="0"/>
                </a:moveTo>
                <a:lnTo>
                  <a:pt x="1752" y="1494"/>
                </a:lnTo>
                <a:lnTo>
                  <a:pt x="744" y="2262"/>
                </a:lnTo>
                <a:lnTo>
                  <a:pt x="0" y="25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6480" y="5638680"/>
            <a:ext cx="6407280" cy="1600200"/>
          </a:xfrm>
          <a:custGeom>
            <a:avLst/>
            <a:gdLst/>
            <a:ahLst/>
            <a:rect l="l" t="t" r="r" b="b"/>
            <a:pathLst>
              <a:path w="4036" h="1008">
                <a:moveTo>
                  <a:pt x="0" y="724"/>
                </a:moveTo>
                <a:lnTo>
                  <a:pt x="532" y="1008"/>
                </a:lnTo>
                <a:lnTo>
                  <a:pt x="1012" y="960"/>
                </a:lnTo>
                <a:lnTo>
                  <a:pt x="1636" y="720"/>
                </a:lnTo>
                <a:lnTo>
                  <a:pt x="2068" y="768"/>
                </a:lnTo>
                <a:lnTo>
                  <a:pt x="2308" y="624"/>
                </a:lnTo>
                <a:lnTo>
                  <a:pt x="2644" y="672"/>
                </a:lnTo>
                <a:lnTo>
                  <a:pt x="2884" y="624"/>
                </a:lnTo>
                <a:lnTo>
                  <a:pt x="3316" y="768"/>
                </a:lnTo>
                <a:lnTo>
                  <a:pt x="3508" y="672"/>
                </a:lnTo>
                <a:lnTo>
                  <a:pt x="3700" y="768"/>
                </a:lnTo>
                <a:lnTo>
                  <a:pt x="3796" y="720"/>
                </a:lnTo>
                <a:lnTo>
                  <a:pt x="4036" y="480"/>
                </a:lnTo>
                <a:lnTo>
                  <a:pt x="4036" y="384"/>
                </a:lnTo>
                <a:lnTo>
                  <a:pt x="35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295280"/>
            <a:ext cx="3581640" cy="5486400"/>
          </a:xfrm>
          <a:custGeom>
            <a:avLst/>
            <a:gdLst/>
            <a:ahLst/>
            <a:rect l="l" t="t" r="r" b="b"/>
            <a:pathLst>
              <a:path w="2256" h="3456">
                <a:moveTo>
                  <a:pt x="0" y="3456"/>
                </a:moveTo>
                <a:lnTo>
                  <a:pt x="768" y="2160"/>
                </a:lnTo>
                <a:lnTo>
                  <a:pt x="1008" y="2064"/>
                </a:lnTo>
                <a:lnTo>
                  <a:pt x="1056" y="1872"/>
                </a:lnTo>
                <a:lnTo>
                  <a:pt x="1104" y="1296"/>
                </a:lnTo>
                <a:lnTo>
                  <a:pt x="1152" y="1104"/>
                </a:lnTo>
                <a:lnTo>
                  <a:pt x="1440" y="624"/>
                </a:lnTo>
                <a:lnTo>
                  <a:pt x="2112" y="288"/>
                </a:lnTo>
                <a:lnTo>
                  <a:pt x="22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1120" y="685800"/>
            <a:ext cx="5276880" cy="1324080"/>
          </a:xfrm>
          <a:custGeom>
            <a:avLst/>
            <a:gdLst/>
            <a:ahLst/>
            <a:rect l="l" t="t" r="r" b="b"/>
            <a:pathLst>
              <a:path w="3324" h="834">
                <a:moveTo>
                  <a:pt x="0" y="834"/>
                </a:moveTo>
                <a:lnTo>
                  <a:pt x="60" y="720"/>
                </a:lnTo>
                <a:lnTo>
                  <a:pt x="396" y="720"/>
                </a:lnTo>
                <a:lnTo>
                  <a:pt x="540" y="672"/>
                </a:lnTo>
                <a:lnTo>
                  <a:pt x="684" y="480"/>
                </a:lnTo>
                <a:lnTo>
                  <a:pt x="732" y="240"/>
                </a:lnTo>
                <a:lnTo>
                  <a:pt x="876" y="96"/>
                </a:lnTo>
                <a:lnTo>
                  <a:pt x="1020" y="0"/>
                </a:lnTo>
                <a:lnTo>
                  <a:pt x="1212" y="0"/>
                </a:lnTo>
                <a:lnTo>
                  <a:pt x="2124" y="432"/>
                </a:lnTo>
                <a:lnTo>
                  <a:pt x="2268" y="432"/>
                </a:lnTo>
                <a:lnTo>
                  <a:pt x="2412" y="432"/>
                </a:lnTo>
                <a:lnTo>
                  <a:pt x="2700" y="384"/>
                </a:lnTo>
                <a:lnTo>
                  <a:pt x="2988" y="384"/>
                </a:lnTo>
                <a:lnTo>
                  <a:pt x="3324" y="3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1295280"/>
            <a:ext cx="609840" cy="1752840"/>
          </a:xfrm>
          <a:custGeom>
            <a:avLst/>
            <a:gdLst/>
            <a:ahLst/>
            <a:rect l="l" t="t" r="r" b="b"/>
            <a:pathLst>
              <a:path w="384" h="1104">
                <a:moveTo>
                  <a:pt x="240" y="1104"/>
                </a:moveTo>
                <a:lnTo>
                  <a:pt x="384" y="864"/>
                </a:lnTo>
                <a:lnTo>
                  <a:pt x="336" y="768"/>
                </a:lnTo>
                <a:lnTo>
                  <a:pt x="288" y="672"/>
                </a:lnTo>
                <a:lnTo>
                  <a:pt x="240" y="624"/>
                </a:lnTo>
                <a:lnTo>
                  <a:pt x="192" y="528"/>
                </a:lnTo>
                <a:lnTo>
                  <a:pt x="192" y="384"/>
                </a:lnTo>
                <a:lnTo>
                  <a:pt x="288" y="288"/>
                </a:lnTo>
                <a:lnTo>
                  <a:pt x="288" y="144"/>
                </a:lnTo>
                <a:lnTo>
                  <a:pt x="192" y="96"/>
                </a:lnTo>
                <a:lnTo>
                  <a:pt x="48" y="4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90800" y="3124080"/>
            <a:ext cx="2076480" cy="409680"/>
          </a:xfrm>
          <a:custGeom>
            <a:avLst/>
            <a:gdLst/>
            <a:ahLst/>
            <a:rect l="l" t="t" r="r" b="b"/>
            <a:pathLst>
              <a:path w="1308" h="258">
                <a:moveTo>
                  <a:pt x="0" y="258"/>
                </a:moveTo>
                <a:lnTo>
                  <a:pt x="108" y="96"/>
                </a:lnTo>
                <a:lnTo>
                  <a:pt x="204" y="48"/>
                </a:lnTo>
                <a:lnTo>
                  <a:pt x="300" y="0"/>
                </a:lnTo>
                <a:lnTo>
                  <a:pt x="444" y="0"/>
                </a:lnTo>
                <a:lnTo>
                  <a:pt x="636" y="48"/>
                </a:lnTo>
                <a:lnTo>
                  <a:pt x="780" y="96"/>
                </a:lnTo>
                <a:lnTo>
                  <a:pt x="876" y="96"/>
                </a:lnTo>
                <a:lnTo>
                  <a:pt x="1020" y="96"/>
                </a:lnTo>
                <a:lnTo>
                  <a:pt x="1116" y="48"/>
                </a:lnTo>
                <a:lnTo>
                  <a:pt x="1212" y="48"/>
                </a:lnTo>
                <a:lnTo>
                  <a:pt x="1308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1854360"/>
            <a:ext cx="1523880" cy="2717640"/>
          </a:xfrm>
          <a:custGeom>
            <a:avLst/>
            <a:gdLst/>
            <a:ahLst/>
            <a:rect l="l" t="t" r="r" b="b"/>
            <a:pathLst>
              <a:path w="960" h="1712">
                <a:moveTo>
                  <a:pt x="0" y="1712"/>
                </a:moveTo>
                <a:lnTo>
                  <a:pt x="336" y="848"/>
                </a:lnTo>
                <a:lnTo>
                  <a:pt x="432" y="464"/>
                </a:lnTo>
                <a:lnTo>
                  <a:pt x="480" y="224"/>
                </a:lnTo>
                <a:lnTo>
                  <a:pt x="528" y="128"/>
                </a:lnTo>
                <a:lnTo>
                  <a:pt x="672" y="32"/>
                </a:lnTo>
                <a:lnTo>
                  <a:pt x="864" y="32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648320" y="8762760"/>
            <a:ext cx="931680" cy="4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78560" y="8839080"/>
            <a:ext cx="931680" cy="5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25920" y="8823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07920" y="882324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06480" y="8823240"/>
            <a:ext cx="41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191120"/>
            <a:ext cx="2361960" cy="6858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0" y="48"/>
                </a:moveTo>
                <a:lnTo>
                  <a:pt x="336" y="48"/>
                </a:lnTo>
                <a:lnTo>
                  <a:pt x="576" y="0"/>
                </a:lnTo>
                <a:lnTo>
                  <a:pt x="720" y="48"/>
                </a:lnTo>
                <a:lnTo>
                  <a:pt x="864" y="192"/>
                </a:lnTo>
                <a:lnTo>
                  <a:pt x="1200" y="336"/>
                </a:lnTo>
                <a:lnTo>
                  <a:pt x="1488" y="4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66800" y="2362320"/>
            <a:ext cx="514440" cy="4029120"/>
          </a:xfrm>
          <a:custGeom>
            <a:avLst/>
            <a:gdLst/>
            <a:ahLst/>
            <a:rect l="l" t="t" r="r" b="b"/>
            <a:pathLst>
              <a:path w="324" h="2538">
                <a:moveTo>
                  <a:pt x="294" y="0"/>
                </a:moveTo>
                <a:lnTo>
                  <a:pt x="324" y="144"/>
                </a:lnTo>
                <a:lnTo>
                  <a:pt x="192" y="318"/>
                </a:lnTo>
                <a:lnTo>
                  <a:pt x="114" y="360"/>
                </a:lnTo>
                <a:lnTo>
                  <a:pt x="18" y="516"/>
                </a:lnTo>
                <a:lnTo>
                  <a:pt x="0" y="630"/>
                </a:lnTo>
                <a:lnTo>
                  <a:pt x="30" y="780"/>
                </a:lnTo>
                <a:lnTo>
                  <a:pt x="114" y="960"/>
                </a:lnTo>
                <a:lnTo>
                  <a:pt x="192" y="1074"/>
                </a:lnTo>
                <a:lnTo>
                  <a:pt x="234" y="1146"/>
                </a:lnTo>
                <a:lnTo>
                  <a:pt x="240" y="1320"/>
                </a:lnTo>
                <a:lnTo>
                  <a:pt x="282" y="1548"/>
                </a:lnTo>
                <a:lnTo>
                  <a:pt x="324" y="1710"/>
                </a:lnTo>
                <a:lnTo>
                  <a:pt x="324" y="1788"/>
                </a:lnTo>
                <a:lnTo>
                  <a:pt x="300" y="1872"/>
                </a:lnTo>
                <a:lnTo>
                  <a:pt x="234" y="1938"/>
                </a:lnTo>
                <a:lnTo>
                  <a:pt x="96" y="1998"/>
                </a:lnTo>
                <a:lnTo>
                  <a:pt x="36" y="2094"/>
                </a:lnTo>
                <a:lnTo>
                  <a:pt x="30" y="2250"/>
                </a:lnTo>
                <a:lnTo>
                  <a:pt x="12" y="2376"/>
                </a:lnTo>
                <a:lnTo>
                  <a:pt x="24" y="25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28840" y="5067360"/>
            <a:ext cx="1904760" cy="600120"/>
          </a:xfrm>
          <a:custGeom>
            <a:avLst/>
            <a:gdLst/>
            <a:ahLst/>
            <a:rect l="l" t="t" r="r" b="b"/>
            <a:pathLst>
              <a:path w="1200" h="378">
                <a:moveTo>
                  <a:pt x="0" y="18"/>
                </a:moveTo>
                <a:lnTo>
                  <a:pt x="474" y="0"/>
                </a:lnTo>
                <a:lnTo>
                  <a:pt x="600" y="0"/>
                </a:lnTo>
                <a:lnTo>
                  <a:pt x="1200" y="3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57440" y="4467240"/>
            <a:ext cx="2009520" cy="657360"/>
          </a:xfrm>
          <a:custGeom>
            <a:avLst/>
            <a:gdLst/>
            <a:ahLst/>
            <a:rect l="l" t="t" r="r" b="b"/>
            <a:pathLst>
              <a:path w="1266" h="414">
                <a:moveTo>
                  <a:pt x="0" y="108"/>
                </a:moveTo>
                <a:lnTo>
                  <a:pt x="336" y="102"/>
                </a:lnTo>
                <a:lnTo>
                  <a:pt x="348" y="162"/>
                </a:lnTo>
                <a:lnTo>
                  <a:pt x="330" y="42"/>
                </a:lnTo>
                <a:lnTo>
                  <a:pt x="408" y="0"/>
                </a:lnTo>
                <a:lnTo>
                  <a:pt x="540" y="0"/>
                </a:lnTo>
                <a:lnTo>
                  <a:pt x="642" y="42"/>
                </a:lnTo>
                <a:lnTo>
                  <a:pt x="762" y="156"/>
                </a:lnTo>
                <a:lnTo>
                  <a:pt x="870" y="210"/>
                </a:lnTo>
                <a:lnTo>
                  <a:pt x="1056" y="276"/>
                </a:lnTo>
                <a:lnTo>
                  <a:pt x="126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38200" y="2924280"/>
            <a:ext cx="1457280" cy="495360"/>
          </a:xfrm>
          <a:custGeom>
            <a:avLst/>
            <a:gdLst/>
            <a:ahLst/>
            <a:rect l="l" t="t" r="r" b="b"/>
            <a:pathLst>
              <a:path w="918" h="312">
                <a:moveTo>
                  <a:pt x="0" y="312"/>
                </a:moveTo>
                <a:lnTo>
                  <a:pt x="156" y="306"/>
                </a:lnTo>
                <a:lnTo>
                  <a:pt x="222" y="288"/>
                </a:lnTo>
                <a:lnTo>
                  <a:pt x="366" y="162"/>
                </a:lnTo>
                <a:lnTo>
                  <a:pt x="450" y="36"/>
                </a:lnTo>
                <a:lnTo>
                  <a:pt x="510" y="0"/>
                </a:lnTo>
                <a:lnTo>
                  <a:pt x="618" y="18"/>
                </a:lnTo>
                <a:lnTo>
                  <a:pt x="774" y="120"/>
                </a:lnTo>
                <a:lnTo>
                  <a:pt x="918" y="2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3095640"/>
            <a:ext cx="881280" cy="976320"/>
          </a:xfrm>
          <a:custGeom>
            <a:avLst/>
            <a:gdLst/>
            <a:ahLst/>
            <a:rect l="l" t="t" r="r" b="b"/>
            <a:pathLst>
              <a:path w="555" h="615">
                <a:moveTo>
                  <a:pt x="0" y="0"/>
                </a:moveTo>
                <a:lnTo>
                  <a:pt x="54" y="39"/>
                </a:lnTo>
                <a:lnTo>
                  <a:pt x="90" y="24"/>
                </a:lnTo>
                <a:lnTo>
                  <a:pt x="138" y="24"/>
                </a:lnTo>
                <a:lnTo>
                  <a:pt x="177" y="90"/>
                </a:lnTo>
                <a:lnTo>
                  <a:pt x="195" y="129"/>
                </a:lnTo>
                <a:lnTo>
                  <a:pt x="138" y="159"/>
                </a:lnTo>
                <a:lnTo>
                  <a:pt x="72" y="204"/>
                </a:lnTo>
                <a:lnTo>
                  <a:pt x="60" y="249"/>
                </a:lnTo>
                <a:lnTo>
                  <a:pt x="57" y="339"/>
                </a:lnTo>
                <a:lnTo>
                  <a:pt x="72" y="405"/>
                </a:lnTo>
                <a:lnTo>
                  <a:pt x="129" y="480"/>
                </a:lnTo>
                <a:lnTo>
                  <a:pt x="201" y="558"/>
                </a:lnTo>
                <a:lnTo>
                  <a:pt x="273" y="600"/>
                </a:lnTo>
                <a:lnTo>
                  <a:pt x="357" y="615"/>
                </a:lnTo>
                <a:lnTo>
                  <a:pt x="471" y="609"/>
                </a:lnTo>
                <a:lnTo>
                  <a:pt x="528" y="546"/>
                </a:lnTo>
                <a:lnTo>
                  <a:pt x="555" y="444"/>
                </a:lnTo>
                <a:lnTo>
                  <a:pt x="537" y="369"/>
                </a:lnTo>
                <a:lnTo>
                  <a:pt x="486" y="300"/>
                </a:lnTo>
                <a:lnTo>
                  <a:pt x="366" y="204"/>
                </a:lnTo>
                <a:lnTo>
                  <a:pt x="261" y="132"/>
                </a:lnTo>
                <a:lnTo>
                  <a:pt x="192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52480" y="3623760"/>
            <a:ext cx="9072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24200" y="3914640"/>
            <a:ext cx="903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290320" y="4066920"/>
            <a:ext cx="4788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1840" y="3990960"/>
            <a:ext cx="1378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48080" y="3552840"/>
            <a:ext cx="1760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5600" y="3043080"/>
            <a:ext cx="457200" cy="1229040"/>
          </a:xfrm>
          <a:custGeom>
            <a:avLst/>
            <a:gdLst/>
            <a:ahLst/>
            <a:rect l="l" t="t" r="r" b="b"/>
            <a:pathLst>
              <a:path w="288" h="774">
                <a:moveTo>
                  <a:pt x="0" y="774"/>
                </a:moveTo>
                <a:lnTo>
                  <a:pt x="57" y="696"/>
                </a:lnTo>
                <a:lnTo>
                  <a:pt x="75" y="612"/>
                </a:lnTo>
                <a:lnTo>
                  <a:pt x="78" y="411"/>
                </a:lnTo>
                <a:lnTo>
                  <a:pt x="87" y="318"/>
                </a:lnTo>
                <a:lnTo>
                  <a:pt x="186" y="138"/>
                </a:lnTo>
                <a:lnTo>
                  <a:pt x="28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2909880"/>
            <a:ext cx="280800" cy="390600"/>
          </a:xfrm>
          <a:custGeom>
            <a:avLst/>
            <a:gdLst/>
            <a:ahLst/>
            <a:rect l="l" t="t" r="r" b="b"/>
            <a:pathLst>
              <a:path w="177" h="246">
                <a:moveTo>
                  <a:pt x="0" y="246"/>
                </a:moveTo>
                <a:lnTo>
                  <a:pt x="81" y="129"/>
                </a:lnTo>
                <a:lnTo>
                  <a:pt x="93" y="93"/>
                </a:lnTo>
                <a:lnTo>
                  <a:pt x="45" y="45"/>
                </a:lnTo>
                <a:lnTo>
                  <a:pt x="72" y="0"/>
                </a:lnTo>
                <a:lnTo>
                  <a:pt x="153" y="60"/>
                </a:lnTo>
                <a:lnTo>
                  <a:pt x="177" y="90"/>
                </a:lnTo>
                <a:lnTo>
                  <a:pt x="144" y="99"/>
                </a:lnTo>
                <a:lnTo>
                  <a:pt x="93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3176640"/>
            <a:ext cx="166680" cy="147600"/>
          </a:xfrm>
          <a:custGeom>
            <a:avLst/>
            <a:gdLst/>
            <a:ahLst/>
            <a:rect l="l" t="t" r="r" b="b"/>
            <a:pathLst>
              <a:path w="105" h="93">
                <a:moveTo>
                  <a:pt x="0" y="39"/>
                </a:moveTo>
                <a:lnTo>
                  <a:pt x="81" y="93"/>
                </a:lnTo>
                <a:lnTo>
                  <a:pt x="105" y="54"/>
                </a:lnTo>
                <a:lnTo>
                  <a:pt x="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19680" y="334332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57" y="51"/>
                </a:lnTo>
                <a:lnTo>
                  <a:pt x="36" y="84"/>
                </a:lnTo>
                <a:lnTo>
                  <a:pt x="156" y="1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4400" y="3367080"/>
            <a:ext cx="557280" cy="333360"/>
          </a:xfrm>
          <a:custGeom>
            <a:avLst/>
            <a:gdLst/>
            <a:ahLst/>
            <a:rect l="l" t="t" r="r" b="b"/>
            <a:pathLst>
              <a:path w="351" h="210">
                <a:moveTo>
                  <a:pt x="0" y="0"/>
                </a:moveTo>
                <a:lnTo>
                  <a:pt x="177" y="42"/>
                </a:lnTo>
                <a:lnTo>
                  <a:pt x="147" y="165"/>
                </a:lnTo>
                <a:lnTo>
                  <a:pt x="318" y="210"/>
                </a:lnTo>
                <a:lnTo>
                  <a:pt x="351" y="84"/>
                </a:lnTo>
                <a:lnTo>
                  <a:pt x="180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1386400">
            <a:off x="5103360" y="99072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nkian P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289400">
            <a:off x="2761920" y="21110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y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8161400">
            <a:off x="4131000" y="233208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s P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6019920"/>
            <a:ext cx="30492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1981080"/>
            <a:ext cx="30492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906480" y="374112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y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124000">
            <a:off x="5486400" y="475380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ry Byrd H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418200">
            <a:off x="4601880" y="5790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Sterling Blv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9362600">
            <a:off x="2513880" y="79239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erling Blv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1007200">
            <a:off x="1142640" y="685764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urch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731600">
            <a:off x="150480" y="678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xpool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8161400">
            <a:off x="3143160" y="285696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en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764400">
            <a:off x="4719960" y="334620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an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977400">
            <a:off x="4495680" y="3671640"/>
            <a:ext cx="62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Clel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652800">
            <a:off x="4570200" y="299052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isade P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830800">
            <a:off x="1734840" y="3735720"/>
            <a:ext cx="72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ulles Town Ci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830800">
            <a:off x="1746000" y="2988360"/>
            <a:ext cx="4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jesti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2049000">
            <a:off x="2212200" y="2894760"/>
            <a:ext cx="813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ulles Center Blv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402600">
            <a:off x="1392840" y="2876400"/>
            <a:ext cx="599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tlantic Blv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86400">
            <a:off x="1438200" y="5878800"/>
            <a:ext cx="8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lantic Blv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1576600">
            <a:off x="1439280" y="4046040"/>
            <a:ext cx="5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1576600">
            <a:off x="1401840" y="48672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n 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8161400">
            <a:off x="2225520" y="614268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s P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705200" y="3200400"/>
            <a:ext cx="5256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988400">
            <a:off x="4353120" y="3306600"/>
            <a:ext cx="54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uthban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14840" y="1724040"/>
            <a:ext cx="204840" cy="1619280"/>
          </a:xfrm>
          <a:custGeom>
            <a:avLst/>
            <a:gdLst/>
            <a:ahLst/>
            <a:rect l="l" t="t" r="r" b="b"/>
            <a:pathLst>
              <a:path w="129" h="1020">
                <a:moveTo>
                  <a:pt x="129" y="1020"/>
                </a:moveTo>
                <a:lnTo>
                  <a:pt x="99" y="996"/>
                </a:lnTo>
                <a:lnTo>
                  <a:pt x="84" y="954"/>
                </a:lnTo>
                <a:lnTo>
                  <a:pt x="81" y="891"/>
                </a:lnTo>
                <a:lnTo>
                  <a:pt x="90" y="726"/>
                </a:lnTo>
                <a:lnTo>
                  <a:pt x="3" y="300"/>
                </a:lnTo>
                <a:lnTo>
                  <a:pt x="0" y="132"/>
                </a:lnTo>
                <a:lnTo>
                  <a:pt x="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59120" y="2971800"/>
            <a:ext cx="22392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962000">
            <a:off x="3810600" y="3492000"/>
            <a:ext cx="470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ke Ct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4272120"/>
            <a:ext cx="648000" cy="495000"/>
          </a:xfrm>
          <a:custGeom>
            <a:avLst/>
            <a:gdLst/>
            <a:ahLst/>
            <a:rect l="l" t="t" r="r" b="b"/>
            <a:pathLst>
              <a:path w="408" h="312">
                <a:moveTo>
                  <a:pt x="0" y="192"/>
                </a:moveTo>
                <a:lnTo>
                  <a:pt x="150" y="267"/>
                </a:lnTo>
                <a:lnTo>
                  <a:pt x="279" y="312"/>
                </a:lnTo>
                <a:lnTo>
                  <a:pt x="318" y="300"/>
                </a:lnTo>
                <a:lnTo>
                  <a:pt x="366" y="276"/>
                </a:lnTo>
                <a:lnTo>
                  <a:pt x="387" y="237"/>
                </a:lnTo>
                <a:lnTo>
                  <a:pt x="408" y="195"/>
                </a:lnTo>
                <a:lnTo>
                  <a:pt x="402" y="147"/>
                </a:lnTo>
                <a:lnTo>
                  <a:pt x="378" y="108"/>
                </a:lnTo>
                <a:lnTo>
                  <a:pt x="330" y="66"/>
                </a:lnTo>
                <a:lnTo>
                  <a:pt x="261" y="36"/>
                </a:lnTo>
                <a:lnTo>
                  <a:pt x="201" y="12"/>
                </a:lnTo>
                <a:lnTo>
                  <a:pt x="168" y="0"/>
                </a:lnTo>
                <a:lnTo>
                  <a:pt x="63" y="2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384200">
            <a:off x="4115880" y="467676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artholomew Fai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03440" y="7365960"/>
            <a:ext cx="1244880" cy="1015920"/>
          </a:xfrm>
          <a:custGeom>
            <a:avLst/>
            <a:gdLst/>
            <a:ahLst/>
            <a:rect l="l" t="t" r="r" b="b"/>
            <a:pathLst>
              <a:path w="784" h="640">
                <a:moveTo>
                  <a:pt x="0" y="432"/>
                </a:moveTo>
                <a:lnTo>
                  <a:pt x="112" y="544"/>
                </a:lnTo>
                <a:lnTo>
                  <a:pt x="208" y="592"/>
                </a:lnTo>
                <a:lnTo>
                  <a:pt x="400" y="640"/>
                </a:lnTo>
                <a:lnTo>
                  <a:pt x="544" y="640"/>
                </a:lnTo>
                <a:lnTo>
                  <a:pt x="640" y="592"/>
                </a:lnTo>
                <a:lnTo>
                  <a:pt x="736" y="496"/>
                </a:lnTo>
                <a:lnTo>
                  <a:pt x="784" y="352"/>
                </a:lnTo>
                <a:lnTo>
                  <a:pt x="736" y="160"/>
                </a:lnTo>
                <a:lnTo>
                  <a:pt x="640" y="64"/>
                </a:lnTo>
                <a:lnTo>
                  <a:pt x="5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851200">
            <a:off x="3230280" y="8200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p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266200">
            <a:off x="4343400" y="731484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161000">
            <a:off x="4344840" y="822924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53000" y="7499520"/>
            <a:ext cx="698400" cy="806400"/>
          </a:xfrm>
          <a:custGeom>
            <a:avLst/>
            <a:gdLst/>
            <a:ahLst/>
            <a:rect l="l" t="t" r="r" b="b"/>
            <a:pathLst>
              <a:path w="440" h="508">
                <a:moveTo>
                  <a:pt x="0" y="508"/>
                </a:moveTo>
                <a:lnTo>
                  <a:pt x="360" y="216"/>
                </a:lnTo>
                <a:lnTo>
                  <a:pt x="376" y="172"/>
                </a:lnTo>
                <a:lnTo>
                  <a:pt x="248" y="52"/>
                </a:lnTo>
                <a:lnTo>
                  <a:pt x="324" y="120"/>
                </a:lnTo>
                <a:lnTo>
                  <a:pt x="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9810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1371600" cy="31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 the M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 &amp; Jerry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impie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k-Fil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ert Moon Caf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am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k &amp; Ste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at Steak  &amp;Potato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rill Kab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tanbul Bazaa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st Dess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lly’s Cajun G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 Toky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libu Grill Ex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W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s.Field’s Cook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bar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pic Sun Fruit &amp;N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1371600" cy="100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aroni G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zzeria 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horn Steak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Lob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Rob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371600" y="380988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543800"/>
            <a:ext cx="1295280" cy="550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ia’s Restor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pa John’s Pi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ental Ex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295280" y="70102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7162920"/>
            <a:ext cx="990720" cy="550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zza H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Donald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ibar R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75438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78400">
            <a:off x="3126240" y="3353400"/>
            <a:ext cx="609840" cy="39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GI Fri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105520"/>
            <a:ext cx="1523880" cy="100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endly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ndy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back Steak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’s Am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n Pablo’s Mexic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ific Rim Cuis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57164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8001000"/>
            <a:ext cx="1447560" cy="550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efoot Pelican G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ry Qu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14440" y="8001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3733920"/>
            <a:ext cx="137160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an’s Road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by Tues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ngalow Billiards &amp;B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304920"/>
            <a:ext cx="914400" cy="550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ebee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ger 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876560" y="365724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2362320"/>
            <a:ext cx="1066680" cy="855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na 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ston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ner Bak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BQ 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Donald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724280" y="2514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657240" y="838080"/>
            <a:ext cx="609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152280"/>
            <a:ext cx="1155600" cy="100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i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ld Cup Caf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o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o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ng’s R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606480" y="1143000"/>
            <a:ext cx="127080" cy="19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191120"/>
            <a:ext cx="1371600" cy="39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e’s Crab Sh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e Star Steakh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19112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1523880"/>
            <a:ext cx="1562400" cy="24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cken Out Rotisser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886200" y="1752480"/>
            <a:ext cx="9144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5638680"/>
            <a:ext cx="1143000" cy="1312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ck-Fil-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ya Kab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ryDays G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Donald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ino’s I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los Intl R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tnam 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ndy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571500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20:24:39Z</dcterms:created>
  <dc:creator>mressler</dc:creator>
  <dc:description/>
  <dc:language>en-US</dc:language>
  <cp:lastModifiedBy>mressler</cp:lastModifiedBy>
  <dcterms:modified xsi:type="dcterms:W3CDTF">2002-08-25T23:00:53Z</dcterms:modified>
  <cp:revision>2</cp:revision>
  <dc:subject/>
  <dc:title>PowerPoint Presentation</dc:title>
</cp:coreProperties>
</file>